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8679-FDEE-4522-9165-60E284884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970-A0AD-456A-9CD5-52B46210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6D2-0B35-4E28-B448-E3B042DE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10E-6381-4D37-AE5C-F9BFFF68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4C9-49E7-4DC1-BC5C-F4F2EB94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12A-6FC4-45B1-A057-DE5343EA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357-D7E0-4CEA-A12F-80B8DA01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667-8336-4974-B944-8B45EB62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89A-1F65-409F-9B14-C90344BB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513-CB0A-44D4-B4BD-0776B1B7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970-0459-4BCC-8651-A4B0960E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119-2E3D-4881-8C74-10C9163A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FC9-6257-427C-80AB-A53BB6F5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1989-495D-410A-9802-77B5809C7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</cp:lastModifiedBy>
  <dcterms:modified xsi:type="dcterms:W3CDTF">2016-12-07T08:34:14Z</dcterms:modified>
  <cp:revision>46</cp:revision>
  <dc:subject>Endocrine and nervous system</dc:subject>
  <dc:title>Endocrine and nervous system</dc:title>
</cp:coreProperties>
</file>